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9BC-C54A-4E68-AFD7-939C4744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9F3-D2CE-408E-9683-8FAC577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3D8-0993-4254-A1C1-13708083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EBF-3219-4DD2-B2BA-92419B25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BF6-6884-4B3F-B75C-2C53E7C1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D50-A8B9-4E98-88BE-2B4001D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E41-2A7B-442E-A0EC-9CBF27DE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4AC-CF12-43D9-B5D2-CAE099C3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FD9-B23B-4E00-8F31-AF219D4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646-7157-44A8-B778-2299F5B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427-6646-4FD2-8DA3-048583C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498-5764-4CF4-9F35-80E2D64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30D-7BF7-42BC-AEAE-A2ADE3E0E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Chapter 8.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of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 energy electrons are passed through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ctron transport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photosystem II to photosystem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from the electrons is used to transport H+ ions fr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troma into the inner thylakoi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hits the electrons that are now in photosystem I to excite the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high energy electrons are picked up by NADP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DP+ also picks up the H+ ions to make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electrons move onto the NADP+,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+ ions are pumped across th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 outside of the thylakoid becomes negatively charged and the inside becomes positively 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n charge provides the energy to mak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lakoid membrane contains an enzyme called ATP synt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+ ions pass through it to synthesiz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ergy will be used to make energy-containing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041640" y="19828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-Dependent Reactions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61" name="Chapter 08C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041640" y="19828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-Dependent Reactions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hapter 08D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187280" y="1206360"/>
            <a:ext cx="7075800" cy="4624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855240" y="222084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898280" y="253836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37600" y="326232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37600" y="434196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37960" y="5218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986000" y="28306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1854360" y="2768760"/>
            <a:ext cx="368280" cy="18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1841400" y="4419720"/>
            <a:ext cx="57168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1841040" y="4356000"/>
            <a:ext cx="17528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3530520" y="4381560"/>
            <a:ext cx="55872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H="1">
            <a:off x="5041440" y="5067360"/>
            <a:ext cx="266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 flipV="1">
            <a:off x="5308560" y="3149280"/>
            <a:ext cx="38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V="1">
            <a:off x="3911760" y="2666520"/>
            <a:ext cx="3175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 flipV="1">
            <a:off x="4241880" y="2654280"/>
            <a:ext cx="3045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1848600" y="543384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511440" y="55609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5063040" y="5560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993720" y="25131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590920" y="231840"/>
            <a:ext cx="622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0 Light-Dependent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light-dependent"/>
          <p:cNvPicPr/>
          <p:nvPr/>
        </p:nvPicPr>
        <p:blipFill>
          <a:blip r:embed="rId1"/>
          <a:stretch/>
        </p:blipFill>
        <p:spPr>
          <a:xfrm>
            <a:off x="838080" y="1203480"/>
            <a:ext cx="7467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the energy th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P and NAD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to build high-energy compounds that can be stored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 carbon diox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enter the cycle from the atmosphere to produce 1  6-carbon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ycle continues,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 3-carb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-carbon molecules obtain energy from ATP and NADPH to become high energy 3-carbo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hloroplast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12 3-carbon molecules are removed from 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gars, lipids, amino acids, and other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ed for plant metabolism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of the 3-carbon molecules combine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5-carbo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c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ater slows down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 also have evolved ways to help prevent water loss (waxy covering on lea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s function best at 0-35 degrees Cels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light intensity increases the rate of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ertain amount of light intensity where the amount of photosynthesis within a plant does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040200" y="19828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forward arrow"/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209" name="Chapter 08E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882720" y="1447920"/>
            <a:ext cx="7815240" cy="41893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6972480" y="3708360"/>
            <a:ext cx="8762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018560" y="36050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I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064160" y="1712880"/>
            <a:ext cx="184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s th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413960" y="219564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036800" y="4202280"/>
            <a:ext cx="121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691280" y="566244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ars and other comp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830400" y="48751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Carbon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1 Calvi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calvin"/>
          <p:cNvPicPr/>
          <p:nvPr/>
        </p:nvPicPr>
        <p:blipFill>
          <a:blip r:embed="rId1"/>
          <a:stretch/>
        </p:blipFill>
        <p:spPr>
          <a:xfrm>
            <a:off x="147492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membra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folded so there is an increased surface area for absorption of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s of thylakoi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chlorophyll and other pig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filling of chloropla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C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rrier molecule is a compound that can accept a pair of high-energy electrons and transfer them along with most of their energy to another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electron carrier of photosynthesi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DP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into NADPH when it is carrying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different groupings of photosystems in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o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2 photosystems (II and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i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03320" y="1352520"/>
            <a:ext cx="6993000" cy="4343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371640" y="26020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2093760" y="2320920"/>
            <a:ext cx="587520" cy="3685680"/>
            <a:chOff x="2093760" y="2320920"/>
            <a:chExt cx="587520" cy="3685680"/>
          </a:xfrm>
        </p:grpSpPr>
        <p:sp>
          <p:nvSpPr>
            <p:cNvPr id="55" name="Text Box 5"/>
            <p:cNvSpPr/>
            <p:nvPr/>
          </p:nvSpPr>
          <p:spPr>
            <a:xfrm>
              <a:off x="2093760" y="232092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266200" y="56358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4291200" y="2320920"/>
            <a:ext cx="823680" cy="3474360"/>
            <a:chOff x="4291200" y="2320920"/>
            <a:chExt cx="823680" cy="3474360"/>
          </a:xfrm>
        </p:grpSpPr>
        <p:sp>
          <p:nvSpPr>
            <p:cNvPr id="58" name="Text Box 8"/>
            <p:cNvSpPr/>
            <p:nvPr/>
          </p:nvSpPr>
          <p:spPr>
            <a:xfrm>
              <a:off x="4291200" y="54579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4412520" y="232092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0"/>
          <p:cNvSpPr/>
          <p:nvPr/>
        </p:nvSpPr>
        <p:spPr>
          <a:xfrm>
            <a:off x="1926000" y="3868560"/>
            <a:ext cx="1102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264200" y="3871800"/>
            <a:ext cx="746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146760" y="46576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274560" y="43527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097080" y="3222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P +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04000" y="29559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88360" y="289404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2590920" y="231840"/>
            <a:ext cx="640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7 Photosynthesis: 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281960" y="2322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2"/>
          <p:cNvSpPr/>
          <p:nvPr/>
        </p:nvSpPr>
        <p:spPr>
          <a:xfrm>
            <a:off x="4197240" y="1143000"/>
            <a:ext cx="1816200" cy="77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5076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6778800" y="466092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746520" y="468648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8420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7607160" y="3600360"/>
            <a:ext cx="147348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276876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8128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724800" y="247644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1765440" y="251460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25412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092560" y="191772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5092560" y="2209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2565360" y="23241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2565360" y="2324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467480" y="232740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2489040" y="3149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493040" y="31114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536840" y="325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153684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351792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1536840" y="325116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3517920" y="326088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6553080" y="346716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6553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8344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7493040" y="3352680"/>
            <a:ext cx="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127008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252720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4330800" y="3638520"/>
            <a:ext cx="1323720" cy="565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 flipH="1">
            <a:off x="5334120" y="3352680"/>
            <a:ext cx="568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H="1">
            <a:off x="6298920" y="2870280"/>
            <a:ext cx="444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1530360" y="4238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186048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622440" y="4508640"/>
            <a:ext cx="24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>
            <a:off x="62244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3114720" y="45115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3502080" y="4232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0"/>
          <p:cNvSpPr/>
          <p:nvPr/>
        </p:nvSpPr>
        <p:spPr>
          <a:xfrm>
            <a:off x="5000760" y="420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3498840" y="43783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2"/>
          <p:cNvSpPr/>
          <p:nvPr/>
        </p:nvSpPr>
        <p:spPr>
          <a:xfrm>
            <a:off x="4486320" y="43815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>
            <a:off x="4486320" y="45655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656892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>
            <a:off x="835344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6"/>
          <p:cNvSpPr/>
          <p:nvPr/>
        </p:nvSpPr>
        <p:spPr>
          <a:xfrm>
            <a:off x="6568920" y="438156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7"/>
          <p:cNvSpPr/>
          <p:nvPr/>
        </p:nvSpPr>
        <p:spPr>
          <a:xfrm>
            <a:off x="7527960" y="4384800"/>
            <a:ext cx="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8"/>
          <p:cNvSpPr/>
          <p:nvPr/>
        </p:nvSpPr>
        <p:spPr>
          <a:xfrm>
            <a:off x="7527960" y="453384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4682880" y="1954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4318920" y="437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2905560" y="321156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5483160" y="30844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s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7213680" y="3122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1001160" y="425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995880" y="43290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1321200" y="3186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7"/>
          <p:cNvGrpSpPr/>
          <p:nvPr/>
        </p:nvGrpSpPr>
        <p:grpSpPr>
          <a:xfrm>
            <a:off x="1941840" y="2487600"/>
            <a:ext cx="6141240" cy="677160"/>
            <a:chOff x="1941840" y="2487600"/>
            <a:chExt cx="6141240" cy="677160"/>
          </a:xfrm>
        </p:grpSpPr>
        <p:sp>
          <p:nvSpPr>
            <p:cNvPr id="126" name="Text Box 58"/>
            <p:cNvSpPr/>
            <p:nvPr/>
          </p:nvSpPr>
          <p:spPr>
            <a:xfrm>
              <a:off x="1941840" y="2487600"/>
              <a:ext cx="11394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9"/>
            <p:cNvSpPr/>
            <p:nvPr/>
          </p:nvSpPr>
          <p:spPr>
            <a:xfrm>
              <a:off x="6815880" y="261288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vin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0"/>
          <p:cNvGrpSpPr/>
          <p:nvPr/>
        </p:nvGrpSpPr>
        <p:grpSpPr>
          <a:xfrm>
            <a:off x="965160" y="3693960"/>
            <a:ext cx="7848000" cy="482760"/>
            <a:chOff x="965160" y="3693960"/>
            <a:chExt cx="7848000" cy="482760"/>
          </a:xfrm>
        </p:grpSpPr>
        <p:sp>
          <p:nvSpPr>
            <p:cNvPr id="129" name="Text Box 61"/>
            <p:cNvSpPr/>
            <p:nvPr/>
          </p:nvSpPr>
          <p:spPr>
            <a:xfrm>
              <a:off x="2882160" y="3693960"/>
              <a:ext cx="1252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2"/>
            <p:cNvSpPr/>
            <p:nvPr/>
          </p:nvSpPr>
          <p:spPr>
            <a:xfrm>
              <a:off x="4558680" y="37432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3"/>
            <p:cNvSpPr/>
            <p:nvPr/>
          </p:nvSpPr>
          <p:spPr>
            <a:xfrm>
              <a:off x="7922160" y="37432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4"/>
            <p:cNvSpPr/>
            <p:nvPr/>
          </p:nvSpPr>
          <p:spPr>
            <a:xfrm>
              <a:off x="6284520" y="3730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5"/>
            <p:cNvSpPr/>
            <p:nvPr/>
          </p:nvSpPr>
          <p:spPr>
            <a:xfrm>
              <a:off x="965160" y="369396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6"/>
          <p:cNvGrpSpPr/>
          <p:nvPr/>
        </p:nvGrpSpPr>
        <p:grpSpPr>
          <a:xfrm>
            <a:off x="328320" y="4761000"/>
            <a:ext cx="7826400" cy="482760"/>
            <a:chOff x="328320" y="4761000"/>
            <a:chExt cx="7826400" cy="482760"/>
          </a:xfrm>
        </p:grpSpPr>
        <p:sp>
          <p:nvSpPr>
            <p:cNvPr id="135" name="Text Box 67"/>
            <p:cNvSpPr/>
            <p:nvPr/>
          </p:nvSpPr>
          <p:spPr>
            <a:xfrm>
              <a:off x="328320" y="482436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8"/>
            <p:cNvSpPr/>
            <p:nvPr/>
          </p:nvSpPr>
          <p:spPr>
            <a:xfrm>
              <a:off x="1381680" y="482436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9"/>
            <p:cNvSpPr/>
            <p:nvPr/>
          </p:nvSpPr>
          <p:spPr>
            <a:xfrm>
              <a:off x="2875680" y="4824360"/>
              <a:ext cx="40320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0"/>
            <p:cNvSpPr/>
            <p:nvPr/>
          </p:nvSpPr>
          <p:spPr>
            <a:xfrm>
              <a:off x="3819960" y="4849920"/>
              <a:ext cx="1310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opla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1"/>
            <p:cNvSpPr/>
            <p:nvPr/>
          </p:nvSpPr>
          <p:spPr>
            <a:xfrm>
              <a:off x="6869160" y="476100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72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3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photosynthesis that requires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ght energy to produce ATP and NADPH, as well a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s of photosystem II absorb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absorbed by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electrons are transferred to NADP+ (electron carrier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ctrons are replaced by electrons produced by the breakdow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broken down int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electrons, 2 H+ ions, and 1 oxy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s broken apart and released inside the thylak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50:10Z</dcterms:created>
  <dc:creator>bpalme</dc:creator>
  <dc:description/>
  <dc:language>en-US</dc:language>
  <cp:lastModifiedBy>Preferred Customer</cp:lastModifiedBy>
  <dcterms:modified xsi:type="dcterms:W3CDTF">2009-12-20T15:24:43Z</dcterms:modified>
  <cp:revision>22</cp:revision>
  <dc:subject/>
  <dc:title>Chapter 8.2</dc:title>
</cp:coreProperties>
</file>